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E68-6F73-4A86-85B1-5EF5A1F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E17-DED0-4B70-AFF5-0585C03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0BA-0D45-422E-AD25-FFBD277F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B1A-5583-4B5D-BEA5-32AC36CF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3AF-5E3E-4275-AF32-C9FD8B4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460-0D17-435E-8132-5FC860E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E46-3127-4A5D-BEC9-1FC112F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711-5EEB-4DCD-989E-DF65799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660-D07D-409F-9F69-94F5CA7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451-40D8-44DF-99F8-86B859F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61A-DC61-4CBF-984E-2C2F4DC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F5F-5EA1-48EF-92C0-D6FF603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A7A9-1C7D-4158-A21C-FC41366B2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Acceptable Use for Stud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Program Files\Microsoft Office\Media\CntCD1\ClipArt2\j0232047.wmf"/>
          <p:cNvPicPr/>
          <p:nvPr/>
        </p:nvPicPr>
        <p:blipFill>
          <a:blip r:embed="rId1"/>
          <a:stretch/>
        </p:blipFill>
        <p:spPr>
          <a:xfrm>
            <a:off x="609480" y="4303800"/>
            <a:ext cx="25909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computers and other equipment is a privilege, not a righ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privilege can be removed for failure to follow the guidelines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Program Files\Microsoft Office\Media\CntCD1\ClipArt2\j0231892.wmf"/>
          <p:cNvPicPr/>
          <p:nvPr/>
        </p:nvPicPr>
        <p:blipFill>
          <a:blip r:embed="rId1"/>
          <a:stretch/>
        </p:blipFill>
        <p:spPr>
          <a:xfrm>
            <a:off x="6629400" y="4495680"/>
            <a:ext cx="2057400" cy="220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Program Files\Microsoft Office\Media\CntCD1\ClipArt3\j0233167.wmf"/>
          <p:cNvPicPr/>
          <p:nvPr/>
        </p:nvPicPr>
        <p:blipFill>
          <a:blip r:embed="rId2"/>
          <a:stretch/>
        </p:blipFill>
        <p:spPr>
          <a:xfrm>
            <a:off x="762120" y="4952880"/>
            <a:ext cx="33098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- the user- will log in using your own user name and password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may not use another person’s ID or password, upload or download programs without permiss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activity is monitored by the district.  Privileges can be taken away for inappropriate activity and/or vandalism(requires restitution for costs associated with the system, hardware, or software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will be monitored at all times.  This means monitors must be turned so the display is seen by the teacher/adul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Program Files\Microsoft Office\Media\CntCD1\ClipArt3\j0233313.wmf"/>
          <p:cNvPicPr/>
          <p:nvPr/>
        </p:nvPicPr>
        <p:blipFill>
          <a:blip r:embed="rId1"/>
          <a:stretch/>
        </p:blipFill>
        <p:spPr>
          <a:xfrm>
            <a:off x="3429000" y="380880"/>
            <a:ext cx="22575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retain all rights to their work.  However, the district may use your work for educationally related purpo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Program Files\Microsoft Office\Media\CntCD1\ClipArt3\j0233965.wmf"/>
          <p:cNvPicPr/>
          <p:nvPr/>
        </p:nvPicPr>
        <p:blipFill>
          <a:blip r:embed="rId1"/>
          <a:stretch/>
        </p:blipFill>
        <p:spPr>
          <a:xfrm>
            <a:off x="1143000" y="4724280"/>
            <a:ext cx="240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use must be educationally relevan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students must have parental permission to use the internet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websites must be previewed before using them with student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how matri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may search the approved district databa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picewood website&gt; Library&gt; Online Resourc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eacher assistanc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may access their teacher’s prepared list on Teacher We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teacher supervision with careful planning, students ma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build their own curriculum-related webpages, wikis, blogs or add to the class webpage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contribute to wikis and/or blo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Program Files\Microsoft Office\Media\CntCD1\ClipArt6\j0292124.wmf"/>
          <p:cNvPicPr/>
          <p:nvPr/>
        </p:nvPicPr>
        <p:blipFill>
          <a:blip r:embed="rId1"/>
          <a:stretch/>
        </p:blipFill>
        <p:spPr>
          <a:xfrm>
            <a:off x="533520" y="4876920"/>
            <a:ext cx="1812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47:25Z</dcterms:created>
  <dc:creator>105allena</dc:creator>
  <dc:description/>
  <dc:language>en-US</dc:language>
  <cp:lastModifiedBy>105allena</cp:lastModifiedBy>
  <dcterms:modified xsi:type="dcterms:W3CDTF">2009-08-19T15:26:58Z</dcterms:modified>
  <cp:revision>10</cp:revision>
  <dc:subject/>
  <dc:title>Acceptable Use for Students</dc:title>
</cp:coreProperties>
</file>